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5A75-BC62-488F-98F6-52FACFF5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78F0-7059-4409-9D05-A8E81FD8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DC40-5623-4C0E-8527-6139F280F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1F73-1FAB-48B6-9E3C-86C1420F3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D62A-900D-4689-938E-8A2C0A491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5586-4949-4370-A7A8-83E699C7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018C-D208-4289-AB39-60B63F15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1759-0269-4BE8-8D75-3FB11CB8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4F7D-4EEF-48F2-8E2E-95545816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64E0-EBF7-4249-833A-38E62D21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1ACA-B5E6-4E68-81E9-8E419436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685A-1C11-433C-BC07-8FBEA31C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2F4B-168D-4664-B499-AE8E28A8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9DCB-F3E3-4BC0-9C37-E7616B4A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F914-2638-4EFE-A849-C744AC57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86BA-0FDA-4F09-8703-845379FE1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DC92-B581-4D1D-80A4-C1DA80BF1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DF87E-6DCC-4B5F-9F1B-37CF9A03F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4BC95-5E20-4215-92BA-B0829C82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E9EB5-5786-4BF9-8C00-4CE90149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84343-4E43-4161-9749-DFF6C5DA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54C3C-C938-422D-8C9E-C8EBE133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E275-A212-4485-BB3D-22C3C614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F4698-C00A-4121-BC15-9261A25D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B47A7-D523-4473-8A6F-2E47BED2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9AAED-4459-4FD6-865E-C4F9D891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0A139-139A-42CB-859B-C9D1E744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97A7D-CDED-4238-9D16-809E3DF6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0B3D8-08EC-47E6-9123-92CCD145A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B313C-97EE-4CF3-B0E4-BAC1D3584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2070F-A7D7-4296-BF0C-466CD3A4D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D735C-A52B-454B-B1B3-618B25E0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35D3A-84DB-4B06-9C61-F5DDF758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1F22-EC43-42B2-BDAA-1B58E3A6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9A193-0C64-4929-B6CD-2C925F16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FD7EA-7C0B-4065-9818-1A502BBD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6EC3C-47F6-4746-AA57-2A263060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CF9D2-8584-4EA1-BF4C-EC3651AC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101C9-0E5B-404D-9D4A-B5BCD0CE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32042-4561-4CB8-9FB9-57657B65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6EF06-F91F-4BF8-A82A-2C3CC329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470D1-D4E9-4F2A-B7E5-8CF7A7279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6FD33-E490-419B-A4F0-84E9300D1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3B69E-13FB-4917-83B6-449F980C7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B80E-F43E-4E9E-9E2F-877BCCA7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D7E83-B64B-4DC2-BE32-8051CD19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E7FCF-E97F-42BA-ACFD-52370B5A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D40D7-4B04-42A8-BA12-84E4E705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53457-D29C-45D2-A53A-42777D6F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58594-1384-415A-8BE4-97B46E27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70BD1-CEC4-404A-BACF-007BE47D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85B6C-ADC8-4D4E-A3E7-115008D8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BFBAB-596A-4D7E-B688-5B87DA7B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49DBB-E121-4F08-BEF1-FBB19286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D1416-FC7C-437C-B0E1-54D540721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CB81-B8FD-4A2F-B7AB-36AC4EE2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3C8F3-9945-4E5C-BE94-9C183AF9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204B1-70C4-4EE3-9DFB-4AEFEC3D0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F548C-682F-4852-B702-F0B0A67E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FCABA-FE65-4D85-AB54-DFB570F1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6CF6D-7BFE-4117-8A82-FF04917D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F6285-13B3-4B0F-8A77-405C107F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5CC7B-BD10-44E6-9672-7B7F5027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76C93-50B9-4241-BD19-03456B26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870F4-397C-45DF-9DE6-A8B1A34A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26FCF-38D2-4562-B1B9-CAB8E052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007C-1F04-428E-9C3C-03C2B724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08B35-3A2E-4688-B15E-C4A3A46E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75AC7-39D2-4EA3-A00B-5ED40E008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9FF99-8102-416D-85E1-8A2834E8F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9A724-CB4A-4B23-9144-B717F6AC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7614D-65AC-4326-B464-0C1A123E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2F4C0-9CD3-4804-A336-4AA1A8C8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B577A-8150-4487-8A7A-9D75ACE5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1BE3A-3D54-4C7C-8E22-00CB738C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F3B2E-A76C-4E86-8990-D5F66F1B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BFA1F-A3BA-4E0E-A2BF-E734280E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541B-A7EE-49DA-A5DF-D20C81B0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0CE1B-0402-45B9-8376-17493D6A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55E55-9A0F-4129-81DF-EF8DFC7D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041F7-522B-4F96-9AC7-35F3D3FA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89993-69B1-41BA-9696-D2A5377DF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C5792-B87D-4C01-A63B-2E0E2C140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0CCB-B659-4041-A68F-B46F43B1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6B2C-3AA3-42C3-A70D-B86E76AEA3B4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53EC-4E95-4D37-B1F8-7D786AE98581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B3EF-BEDD-4AD1-8F24-11BF85C70C88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9EA6-4968-4877-9C11-E752E91C7DCD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BD07-2AF2-4FD3-A2FA-E477A24BB8EF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9F0E-A6CC-4103-AD38-16804D41CD88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3DA6-EBA5-488C-851D-480A0EFD6994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potential.org.ru/pub/Info/ArtDt200509292052PH3C1J9/1_5.png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potential.org.ru/Info/ArtDt200502291619PH3C2J2" TargetMode="External"/><Relationship Id="rId4" Type="http://schemas.openxmlformats.org/officeDocument/2006/relationships/hyperlink" Target="http://dic.academic.ru/dic.nsf/ruwiki/241642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993600" y="3681360"/>
            <a:ext cx="7785360" cy="1298520"/>
          </a:xfrm>
          <a:prstGeom prst="rect">
            <a:avLst/>
          </a:prstGeom>
          <a:ln w="0">
            <a:noFill/>
          </a:ln>
        </p:spPr>
      </p:pic>
      <p:sp>
        <p:nvSpPr>
          <p:cNvPr id="369" name="TextBox 3"/>
          <p:cNvSpPr/>
          <p:nvPr/>
        </p:nvSpPr>
        <p:spPr>
          <a:xfrm>
            <a:off x="1214280" y="357120"/>
            <a:ext cx="700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 учебного проекта: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оичная система счисления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0" name="TextBox 4"/>
          <p:cNvSpPr/>
          <p:nvPr/>
        </p:nvSpPr>
        <p:spPr>
          <a:xfrm>
            <a:off x="1428840" y="278604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ворческое название: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TextBox 5"/>
          <p:cNvSpPr/>
          <p:nvPr/>
        </p:nvSpPr>
        <p:spPr>
          <a:xfrm>
            <a:off x="4071960" y="5214960"/>
            <a:ext cx="47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Автор: Малышев Василий Валентинович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TextBox 6"/>
          <p:cNvSpPr/>
          <p:nvPr/>
        </p:nvSpPr>
        <p:spPr>
          <a:xfrm>
            <a:off x="2500200" y="61437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Сыктывкар 2010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advTm="3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Box 3"/>
          <p:cNvSpPr/>
          <p:nvPr/>
        </p:nvSpPr>
        <p:spPr>
          <a:xfrm>
            <a:off x="357120" y="428760"/>
            <a:ext cx="8786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orbel"/>
              </a:rPr>
              <a:t>Основополагающий вопрос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Как представить информацию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orbel"/>
              </a:rPr>
              <a:t>Проблемный вопрос учебной темы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Как компьютер работает с числами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TextBox 4"/>
          <p:cNvSpPr/>
          <p:nvPr/>
        </p:nvSpPr>
        <p:spPr>
          <a:xfrm>
            <a:off x="428760" y="2571840"/>
            <a:ext cx="4929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b80a"/>
                </a:solidFill>
                <a:latin typeface="Corbel"/>
              </a:rPr>
              <a:t>Учебные предметы:</a:t>
            </a: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математика, информатика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TextBox 5"/>
          <p:cNvSpPr/>
          <p:nvPr/>
        </p:nvSpPr>
        <p:spPr>
          <a:xfrm>
            <a:off x="571680" y="4643280"/>
            <a:ext cx="421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b80a"/>
                </a:solidFill>
                <a:latin typeface="Corbel"/>
              </a:rPr>
              <a:t>Участники: </a:t>
            </a: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9-ые классы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advTm="3000"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Box 3"/>
          <p:cNvSpPr/>
          <p:nvPr/>
        </p:nvSpPr>
        <p:spPr>
          <a:xfrm>
            <a:off x="785880" y="285840"/>
            <a:ext cx="8215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orbel"/>
              </a:rPr>
              <a:t>Дидактические цели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- научить ориентироваться в «море» информации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- сформировать навыки самостоятельной работы, работы в команде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TextBox 4"/>
          <p:cNvSpPr/>
          <p:nvPr/>
        </p:nvSpPr>
        <p:spPr>
          <a:xfrm>
            <a:off x="642960" y="2643120"/>
            <a:ext cx="8286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orbel"/>
              </a:rPr>
              <a:t>Методические задачи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- научить переводить числа из десятичной системы счисления в двоичную и наоборот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- сформировать умения и навыки выполнения арифметические операции над числами в двоичной записи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advTm="3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577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Результаты представления исследования:</a:t>
            </a:r>
            <a:br>
              <a:rPr sz="4000"/>
            </a:br>
            <a:br>
              <a:rPr sz="4000"/>
            </a:br>
            <a:r>
              <a:rPr b="0" lang="ru-RU" sz="2800" spc="-1" strike="noStrike">
                <a:solidFill>
                  <a:srgbClr val="ffffff"/>
                </a:solidFill>
                <a:latin typeface="Consolas"/>
              </a:rPr>
              <a:t>- Презентация – гипотез и доказательств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nsolas"/>
              </a:rPr>
              <a:t>- Буклет – интересные объекты, факты по теме исследования.</a:t>
            </a:r>
            <a:br>
              <a:rPr sz="2800"/>
            </a:b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p:transition advTm="3000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Прямоугольник 4"/>
          <p:cNvSpPr/>
          <p:nvPr/>
        </p:nvSpPr>
        <p:spPr>
          <a:xfrm>
            <a:off x="642960" y="357120"/>
            <a:ext cx="8286840" cy="65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Этапы и сроки проведения проекта: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buClr>
                <a:srgbClr val="ff0000"/>
              </a:buClr>
              <a:buFont typeface="Corbe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Организационно-подготовительный этап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(1 неделя)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1. Постановка проблемы, выдвижение первых гипотез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2. Формирование групп, составление плана действий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3. Обсуждение возможных источников информации по поставленной проблеме, вопросов защиты авторских прав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4. Самостоятельное распределение заданий внутри групп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advTm="3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Прямоугольник 3"/>
          <p:cNvSpPr/>
          <p:nvPr/>
        </p:nvSpPr>
        <p:spPr>
          <a:xfrm>
            <a:off x="714240" y="214200"/>
            <a:ext cx="8215560" cy="58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Этапы и сроки проведения проекта: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II. Экспериментально-аналитический этап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(2, 3 недели)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1. Участие в игре Ним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2. Анализ первых результатов игры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3. Корректировка плана (выдвижение новых гипотез и путей их проверки)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4. Обсуждение, обобщение результатов исследований (общие выводы)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advTm="3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Прямоугольник 3"/>
          <p:cNvSpPr/>
          <p:nvPr/>
        </p:nvSpPr>
        <p:spPr>
          <a:xfrm>
            <a:off x="642960" y="285840"/>
            <a:ext cx="8072280" cy="58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Этапы и сроки проведения проекта: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III. Заключительный этап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(3, 4 недели)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1. Выбор творческого названия проект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2. Оформление результатов исследования в виде презентации и буклет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3. Защита проект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4. Рефлексия деятельности участников проект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advTm="3000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Картинка 2 из 93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3080" y="3048120"/>
            <a:ext cx="4495680" cy="3809880"/>
          </a:xfrm>
          <a:prstGeom prst="rect">
            <a:avLst/>
          </a:prstGeom>
          <a:ln w="0">
            <a:noFill/>
          </a:ln>
        </p:spPr>
      </p:pic>
      <p:sp>
        <p:nvSpPr>
          <p:cNvPr id="383" name="TextBox 4"/>
          <p:cNvSpPr/>
          <p:nvPr/>
        </p:nvSpPr>
        <p:spPr>
          <a:xfrm>
            <a:off x="500040" y="214200"/>
            <a:ext cx="842976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Рекомендуемая литература: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eb80a"/>
                </a:solidFill>
                <a:uFillTx/>
                <a:latin typeface="Corbel"/>
              </a:rPr>
              <a:t>http://www.students.ru/referats</a:t>
            </a:r>
            <a:r>
              <a:rPr b="0" lang="ru-RU" sz="2000" spc="-1" strike="noStrike">
                <a:solidFill>
                  <a:srgbClr val="feb80a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- российская коллекция рефератов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eb80a"/>
                </a:solidFill>
                <a:uFillTx/>
                <a:latin typeface="Corbel"/>
              </a:rPr>
              <a:t>http://www.abc-people.com</a:t>
            </a:r>
            <a:r>
              <a:rPr b="0" lang="ru-RU" sz="2000" spc="-1" strike="noStrike">
                <a:solidFill>
                  <a:srgbClr val="feb80a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- энциклопедия замечательных людей и идей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b8803"/>
                </a:solidFill>
                <a:uFillTx/>
                <a:latin typeface="Corbel"/>
                <a:hlinkClick r:id="rId3"/>
              </a:rPr>
              <a:t>http://potential.org.ru/Info/ArtDt200502291619PH3C2J2</a:t>
            </a:r>
            <a:r>
              <a:rPr b="0" lang="ru-RU" sz="2000" spc="-1" strike="noStrike">
                <a:solidFill>
                  <a:srgbClr val="feb80a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-</a:t>
            </a:r>
            <a:r>
              <a:rPr b="0" lang="ru-RU" sz="2000" spc="-1" strike="noStrike">
                <a:solidFill>
                  <a:srgbClr val="feb80a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Игра "Ним", или как математики играют в игры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b8803"/>
                </a:solidFill>
                <a:uFillTx/>
                <a:latin typeface="Corbel"/>
                <a:hlinkClick r:id="rId4"/>
              </a:rPr>
              <a:t>http://dic.academic.ru/dic.nsf/ruwiki/241642</a:t>
            </a:r>
            <a:r>
              <a:rPr b="0" lang="ru-RU" sz="2000" spc="-1" strike="noStrike">
                <a:solidFill>
                  <a:srgbClr val="feb80a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-</a:t>
            </a:r>
            <a:r>
              <a:rPr b="0" lang="ru-RU" sz="2000" spc="-1" strike="noStrike">
                <a:solidFill>
                  <a:srgbClr val="feb80a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Ним (игра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Семакин И.Г. Информатика и ИКТ. Учебник для 9 класса. – М: БИНОМ, 2005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advTm="3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10:19:22Z</dcterms:created>
  <dc:creator>Admin</dc:creator>
  <dc:description/>
  <dc:language>en-US</dc:language>
  <cp:lastModifiedBy>Admin</cp:lastModifiedBy>
  <dcterms:modified xsi:type="dcterms:W3CDTF">2010-05-30T16:49:42Z</dcterms:modified>
  <cp:revision>10</cp:revision>
  <dc:subject/>
  <dc:title>Игра Ним</dc:title>
</cp:coreProperties>
</file>